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91AB-2467-4B87-8725-A1AC45DCE7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ponential Growth and Deca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ponential Growth and Decay are functions which have been widely used to model the behavior of a variety of topic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and Dec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and Decay are functions which have been widely used to model the behavior of a variety of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Growth and Decay are largely used in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conomic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Natural Science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ocial Science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and Decay are largely used 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Growth can be modeled by the function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While Decay can be modeled by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can be modeled by the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Decay can be model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(t) represents the amount at a certain tim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0 is the initial amoun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r = rat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t = tim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(t) represents the amount at a certain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0 is the initial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729D-7C55-4F58-9C84-FBD18044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12EA-14A8-460D-B278-B1672E0E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6975-A743-4673-8AB9-3F794374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6129-EAF9-422C-A8A3-E70C1531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A485-3B1F-4028-84A8-87035F2C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96DE-5729-4493-BA1D-6ECFC011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F3D8-C07D-41DA-BFA0-102CF652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D7E4-703C-4906-B030-3868CC3F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00FD-FE76-4B70-9046-17BA0322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84BF-CFA9-4E8F-812A-60FC0777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B91E-2EAA-4F46-A11E-AB021362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E831-5B98-4A05-8B4F-9790ED11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DD1A-E7A5-4D9C-AD53-F37B1D641AA0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71680" y="228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xponential Growth and Decay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47640" y="204300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xponential Growth and Decay are functions which have been widely used to model the behavior of a variety of topic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8600" y="6094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rowth and Decay are largely used in: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1" name="WordArt 3"/>
          <p:cNvSpPr txBox="1"/>
          <p:nvPr/>
        </p:nvSpPr>
        <p:spPr>
          <a:xfrm>
            <a:off x="2895480" y="1457280"/>
            <a:ext cx="3353040" cy="19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conomic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380880" y="3809880"/>
            <a:ext cx="350532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atural Scienc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5029200" y="3886200"/>
            <a:ext cx="3657600" cy="19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0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ocial Scienc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3520" y="914400"/>
            <a:ext cx="365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Growth can be modeled by the function: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572000" y="1295280"/>
            <a:ext cx="4343400" cy="1447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7"/>
              <p:cNvSpPr txBox="1"/>
              <p:nvPr/>
            </p:nvSpPr>
            <p:spPr>
              <a:xfrm>
                <a:off x="4648320" y="1447920"/>
                <a:ext cx="425268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" name="Text Box 8"/>
          <p:cNvSpPr/>
          <p:nvPr/>
        </p:nvSpPr>
        <p:spPr>
          <a:xfrm>
            <a:off x="457200" y="3809880"/>
            <a:ext cx="365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ile Decay can be modeled by: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4572000" y="3886200"/>
            <a:ext cx="4343400" cy="1447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0"/>
              <p:cNvSpPr txBox="1"/>
              <p:nvPr/>
            </p:nvSpPr>
            <p:spPr>
              <a:xfrm>
                <a:off x="4648320" y="4038480"/>
                <a:ext cx="425268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28600" y="914400"/>
            <a:ext cx="4343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(t) represents the amount at a certain tim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800600" y="1219320"/>
            <a:ext cx="43434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is the initial amount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14400" y="38098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 = rat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410080" y="3809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 = tim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3T16:21:52Z</dcterms:created>
  <dc:creator>Chester Area School</dc:creator>
  <dc:description/>
  <dc:language>en-US</dc:language>
  <cp:lastModifiedBy>RomaK</cp:lastModifiedBy>
  <dcterms:modified xsi:type="dcterms:W3CDTF">2015-09-04T07:41:59Z</dcterms:modified>
  <cp:revision>15</cp:revision>
  <dc:subject/>
  <dc:title>PowerPoint Presentation</dc:title>
</cp:coreProperties>
</file>